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2"/>
          </p:nvPr>
        </p:nvSpPr>
        <p:spPr>
          <a:xfrm>
            <a:off x="4144680" y="-360"/>
            <a:ext cx="3165480" cy="474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257120" y="720720"/>
            <a:ext cx="4795560" cy="35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74520" y="4560840"/>
            <a:ext cx="5360760" cy="4314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3"/>
          </p:nvPr>
        </p:nvSpPr>
        <p:spPr>
          <a:xfrm>
            <a:off x="-36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4"/>
          </p:nvPr>
        </p:nvSpPr>
        <p:spPr>
          <a:xfrm>
            <a:off x="4144680" y="9120240"/>
            <a:ext cx="3165480" cy="4744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2C60D0-2FB2-45EE-9059-5E76FDB3934E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74880" y="4560840"/>
            <a:ext cx="5362560" cy="43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164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200" y="167616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164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200" y="3982320"/>
            <a:ext cx="25009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7720" cy="386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232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676160"/>
            <a:ext cx="379044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3982320"/>
            <a:ext cx="7767720" cy="210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1000"/>
              </a:lnSpc>
              <a:spcBef>
                <a:spcPts val="7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7720" cy="83340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676160"/>
            <a:ext cx="7767720" cy="44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8040" indent="-33804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8360" indent="-28116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1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1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2280" y="6248520"/>
            <a:ext cx="2129040" cy="45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06400"/>
            <a:ext cx="68580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Go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Automate detection of all main acceleration features (not only the main bunche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Method should work reliably under large range of experimental settings without chang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Support fast exploration of the found 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 u="sng">
                <a:solidFill>
                  <a:srgbClr val="000000"/>
                </a:solidFill>
                <a:uFillTx/>
                <a:latin typeface="Arial"/>
              </a:rPr>
              <a:t>Accomplishment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novel algorithm for detecting particle bunches and their sub-structure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Provide global as well per time step statistics for each featu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431640" indent="-215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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DejaVu LGC Sans"/>
              </a:rPr>
              <a:t>Developed prototype interface for feature exploration and selection including particle selection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0" r="41840" b="0"/>
          <a:stretch/>
        </p:blipFill>
        <p:spPr>
          <a:xfrm>
            <a:off x="7089840" y="700200"/>
            <a:ext cx="2047680" cy="615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" name=""/>
          <p:cNvCxnSpPr>
            <a:stCxn id="61" idx="3"/>
            <a:endCxn id="54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63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stCxn id="54" idx="2"/>
            <a:endCxn id="55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5" idx="2"/>
            <a:endCxn id="56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6" idx="2"/>
            <a:endCxn id="57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"/>
          <p:cNvCxnSpPr>
            <a:stCxn id="57" idx="2"/>
            <a:endCxn id="58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"/>
          <p:cNvCxnSpPr>
            <a:stCxn id="58" idx="2"/>
            <a:endCxn id="63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2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3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74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495680" y="838080"/>
            <a:ext cx="4472280" cy="5486400"/>
          </a:xfrm>
          <a:prstGeom prst="rect">
            <a:avLst/>
          </a:prstGeom>
          <a:ln w="2844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6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443320" y="826920"/>
            <a:ext cx="175248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emporal Que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438280" y="153036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article 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438280" y="2286000"/>
            <a:ext cx="1752840" cy="5284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Maxi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438280" y="320040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3886200"/>
            <a:ext cx="1752840" cy="9144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Bu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istances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7200" y="152388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Trace Length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2520" y="3124080"/>
            <a:ext cx="1752480" cy="57780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Support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87200" y="826920"/>
            <a:ext cx="1752840" cy="43668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Persistenc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3"/>
            <a:endCxn id="77" idx="1"/>
          </p:cNvCxnSpPr>
          <p:nvPr/>
        </p:nvCxnSpPr>
        <p:spPr>
          <a:xfrm>
            <a:off x="1952280" y="104580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86" name=""/>
          <p:cNvSpPr/>
          <p:nvPr/>
        </p:nvSpPr>
        <p:spPr>
          <a:xfrm>
            <a:off x="2438280" y="5084640"/>
            <a:ext cx="1752840" cy="47808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 algn="ctr">
              <a:lnSpc>
                <a:spcPct val="104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Compute Clus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82520" y="2133720"/>
            <a:ext cx="1752480" cy="838080"/>
          </a:xfrm>
          <a:prstGeom prst="roundRect">
            <a:avLst>
              <a:gd name="adj" fmla="val 16667"/>
            </a:avLst>
          </a:prstGeom>
          <a:solidFill>
            <a:srgbClr val="eba5a3"/>
          </a:solidFill>
          <a:ln w="27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Momentu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Loc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520" y="3886200"/>
            <a:ext cx="1752480" cy="42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27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3320" rIns="103320" tIns="58320" bIns="58320" anchor="ctr">
            <a:noAutofit/>
          </a:bodyPr>
          <a:p>
            <a:pPr>
              <a:lnSpc>
                <a:spcPct val="104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DejaVu Sans"/>
              </a:rPr>
              <a:t>Density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77" idx="2"/>
            <a:endCxn id="78" idx="0"/>
          </p:cNvCxnSpPr>
          <p:nvPr/>
        </p:nvCxnSpPr>
        <p:spPr>
          <a:xfrm flipH="1">
            <a:off x="3314160" y="1275840"/>
            <a:ext cx="5400" cy="2422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2"/>
            <a:endCxn id="79" idx="0"/>
          </p:cNvCxnSpPr>
          <p:nvPr/>
        </p:nvCxnSpPr>
        <p:spPr>
          <a:xfrm>
            <a:off x="3314520" y="1979640"/>
            <a:ext cx="1080" cy="294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9" idx="2"/>
            <a:endCxn id="80" idx="0"/>
          </p:cNvCxnSpPr>
          <p:nvPr/>
        </p:nvCxnSpPr>
        <p:spPr>
          <a:xfrm>
            <a:off x="3314520" y="2827080"/>
            <a:ext cx="1080" cy="36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0" idx="2"/>
            <a:endCxn id="81" idx="0"/>
          </p:cNvCxnSpPr>
          <p:nvPr/>
        </p:nvCxnSpPr>
        <p:spPr>
          <a:xfrm>
            <a:off x="3314520" y="3649680"/>
            <a:ext cx="1080" cy="2246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1" idx="2"/>
            <a:endCxn id="86" idx="0"/>
          </p:cNvCxnSpPr>
          <p:nvPr/>
        </p:nvCxnSpPr>
        <p:spPr>
          <a:xfrm>
            <a:off x="3314520" y="4812840"/>
            <a:ext cx="1080" cy="259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/>
          <p:nvPr/>
        </p:nvCxnSpPr>
        <p:spPr>
          <a:xfrm>
            <a:off x="1960200" y="175212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5" name=""/>
          <p:cNvCxnSpPr/>
          <p:nvPr/>
        </p:nvCxnSpPr>
        <p:spPr>
          <a:xfrm>
            <a:off x="1960200" y="2514240"/>
            <a:ext cx="478440" cy="1080"/>
          </a:xfrm>
          <a:prstGeom prst="straightConnector1">
            <a:avLst/>
          </a:prstGeom>
          <a:ln w="36720">
            <a:solidFill>
              <a:srgbClr val="ff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6" name=""/>
          <p:cNvCxnSpPr/>
          <p:nvPr/>
        </p:nvCxnSpPr>
        <p:spPr>
          <a:xfrm>
            <a:off x="1960200" y="34286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cxnSp>
        <p:nvCxnSpPr>
          <p:cNvPr id="97" name=""/>
          <p:cNvCxnSpPr/>
          <p:nvPr/>
        </p:nvCxnSpPr>
        <p:spPr>
          <a:xfrm>
            <a:off x="1960200" y="4114440"/>
            <a:ext cx="478440" cy="1080"/>
          </a:xfrm>
          <a:prstGeom prst="straightConnector1">
            <a:avLst/>
          </a:prstGeom>
          <a:ln w="36720">
            <a:solidFill>
              <a:srgbClr val="000000"/>
            </a:solidFill>
            <a:prstDash val="sysDot"/>
            <a:miter/>
            <a:headEnd len="sm" type="triangle" w="med"/>
            <a:tailEnd len="sm" type="triangle" w="med"/>
          </a:ln>
        </p:spPr>
      </p:cxnSp>
      <p:sp>
        <p:nvSpPr>
          <p:cNvPr id="98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Algorithm co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072200" y="4359240"/>
            <a:ext cx="1974960" cy="2413080"/>
          </a:xfrm>
          <a:prstGeom prst="rect">
            <a:avLst/>
          </a:prstGeom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" descr=""/>
          <p:cNvPicPr/>
          <p:nvPr/>
        </p:nvPicPr>
        <p:blipFill>
          <a:blip r:embed="rId3"/>
          <a:srcRect l="14965" t="1204" r="2536" b="6493"/>
          <a:stretch/>
        </p:blipFill>
        <p:spPr>
          <a:xfrm>
            <a:off x="4267080" y="762120"/>
            <a:ext cx="4800600" cy="34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1" name="" descr=""/>
          <p:cNvPicPr/>
          <p:nvPr/>
        </p:nvPicPr>
        <p:blipFill>
          <a:blip r:embed="rId4"/>
          <a:srcRect l="47727" t="25394" r="45734" b="54524"/>
          <a:stretch/>
        </p:blipFill>
        <p:spPr>
          <a:xfrm>
            <a:off x="5791320" y="4346640"/>
            <a:ext cx="1216080" cy="242568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2" name="" descr=""/>
          <p:cNvPicPr/>
          <p:nvPr/>
        </p:nvPicPr>
        <p:blipFill>
          <a:blip r:embed="rId5"/>
          <a:srcRect l="21459" t="63636" r="70687" b="28307"/>
          <a:stretch/>
        </p:blipFill>
        <p:spPr>
          <a:xfrm>
            <a:off x="4267080" y="4343400"/>
            <a:ext cx="1447920" cy="965160"/>
          </a:xfrm>
          <a:prstGeom prst="rect">
            <a:avLst/>
          </a:prstGeom>
          <a:ln w="25560">
            <a:solidFill>
              <a:srgbClr val="ff0000"/>
            </a:solidFill>
            <a:prstDash val="sysDot"/>
            <a:round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3" name=""/>
          <p:cNvSpPr/>
          <p:nvPr/>
        </p:nvSpPr>
        <p:spPr>
          <a:xfrm>
            <a:off x="4724280" y="3124080"/>
            <a:ext cx="381240" cy="22860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72200" y="1676520"/>
            <a:ext cx="380880" cy="83808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267080" y="3124080"/>
            <a:ext cx="45720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3124080"/>
            <a:ext cx="609480" cy="121932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5791320" y="1676520"/>
            <a:ext cx="38088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3080" y="1676520"/>
            <a:ext cx="457200" cy="26668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Bunch Explora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741240"/>
            <a:ext cx="8229600" cy="60199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343400" y="0"/>
            <a:ext cx="457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Particle Selection GU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rcRect l="0" t="2700" r="0" b="450"/>
          <a:stretch/>
        </p:blipFill>
        <p:spPr>
          <a:xfrm>
            <a:off x="152280" y="838080"/>
            <a:ext cx="8839440" cy="53485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es Bethel</dc:creator>
  <dc:description/>
  <dc:language>en-US</dc:language>
  <cp:lastModifiedBy>Byounghak Lee</cp:lastModifiedBy>
  <cp:lastPrinted>2010-04-11T07:22:27Z</cp:lastPrinted>
  <dcterms:modified xsi:type="dcterms:W3CDTF">2010-04-26T07:06:23Z</dcterms:modified>
  <cp:revision>21</cp:revision>
  <dc:subject/>
  <dc:title>PowerPoint Presentation</dc:title>
</cp:coreProperties>
</file>